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EBAC-787D-426B-9BAE-477163802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0AE9-70E8-4910-869E-AE7322E48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072-548B-4198-85DC-3EAFE04B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72EB-7544-4C32-AFA5-3F55AC42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9CA-D83B-4C06-AB87-BB6B60FB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B4D2-59D6-4FC8-A493-F7DDC2F6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A1C-A5CC-40C9-9615-B5F54F10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571200"/>
            <a:ext cx="264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D9E-FE84-4ED8-BF26-9E1349F2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B18-B15A-45FC-9D80-04EA53C0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091-D004-4117-8176-0E28810D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5D8-F920-4400-8184-E9777EBD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DB4-C717-4A79-8BB8-2EDE8350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712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59E-BA91-4539-BF93-09CC8580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8229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DB0-34D6-49A8-AF7D-CBC4F2AF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90880"/>
            <a:ext cx="137160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8440" y="6590880"/>
            <a:ext cx="28954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676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fld id="{F3E6D86C-AAA6-47D4-8F47-9EAE0521E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-20520" y="6405480"/>
            <a:ext cx="9164520" cy="223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"/>
          <p:cNvPicPr/>
          <p:nvPr/>
        </p:nvPicPr>
        <p:blipFill>
          <a:blip r:embed="rId3"/>
          <a:stretch/>
        </p:blipFill>
        <p:spPr>
          <a:xfrm>
            <a:off x="7543800" y="5838840"/>
            <a:ext cx="1352520" cy="48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3733920" y="1981080"/>
            <a:ext cx="495360" cy="209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8" descr=""/>
          <p:cNvPicPr/>
          <p:nvPr/>
        </p:nvPicPr>
        <p:blipFill>
          <a:blip r:embed="rId3"/>
          <a:stretch/>
        </p:blipFill>
        <p:spPr>
          <a:xfrm>
            <a:off x="838080" y="2301840"/>
            <a:ext cx="2957760" cy="1050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99c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90760" y="175212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es-ES" sz="2900" spc="-1" strike="noStrike">
                <a:solidFill>
                  <a:srgbClr val="0096d7"/>
                </a:solidFill>
                <a:latin typeface="Candara"/>
              </a:rPr>
              <a:t>Propiedad Intelectual</a:t>
            </a:r>
            <a:r>
              <a:rPr b="1" lang="en-US" sz="2900" spc="-1" strike="noStrike">
                <a:solidFill>
                  <a:srgbClr val="0096d7"/>
                </a:solidFill>
                <a:latin typeface="Candara"/>
              </a:rPr>
              <a:t>:</a:t>
            </a:r>
            <a:br>
              <a:rPr sz="2900"/>
            </a:br>
            <a:r>
              <a:rPr b="1" lang="en-US" sz="2900" spc="-1" strike="noStrike">
                <a:solidFill>
                  <a:srgbClr val="0096d7"/>
                </a:solidFill>
                <a:latin typeface="Candara"/>
              </a:rPr>
              <a:t>Oportunidades para el desarrollo de las PYMEs</a:t>
            </a:r>
            <a:br>
              <a:rPr sz="2900"/>
            </a:br>
            <a:r>
              <a:rPr b="1" lang="en-US" sz="2900" spc="-1" strike="noStrike">
                <a:solidFill>
                  <a:srgbClr val="0096d7"/>
                </a:solidFill>
                <a:latin typeface="Candara"/>
              </a:rPr>
              <a:t>de América Latina y el Caribe </a:t>
            </a:r>
            <a:br>
              <a:rPr sz="2900"/>
            </a:br>
            <a:br>
              <a:rPr sz="2900"/>
            </a:br>
            <a:endParaRPr b="1" lang="en-US" sz="29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96252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404040"/>
                </a:solidFill>
                <a:latin typeface="Candara"/>
              </a:rPr>
              <a:t>Jaime Granado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404040"/>
                </a:solidFill>
                <a:latin typeface="Candara"/>
              </a:rPr>
              <a:t>Especialista Sr. en Comercio e Integrac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404040"/>
                </a:solidFill>
                <a:latin typeface="Candara"/>
              </a:rPr>
              <a:t>Sector de Integración y Comercio (I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200" spc="-1" strike="noStrike">
                <a:solidFill>
                  <a:srgbClr val="404040"/>
                </a:solidFill>
                <a:latin typeface="Candara"/>
              </a:rPr>
              <a:t>Vicepresidencia de Sectores y Conocimiento (VP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066680" y="48276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Maximizando el Valor de las Innovaciones Mexic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a través de la Propiedad 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ndara"/>
              </a:rPr>
              <a:t>IMPI-ICC, Ciudad de México, 29 de Noviembre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Derechos de autor y conexos:</a:t>
            </a:r>
            <a:br>
              <a:rPr sz="2400"/>
            </a:b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herramientas para potenciar el intelecto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8288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renta y la titularidad de las creaciones intelectuales se le reconoce permanentemente a su cread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encial para el desarrollo de industrias clav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stemas de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ustrias cult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6028CEA1-E668-4D32-BEC4-EE9EFE5F4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Pero hay fallas de mercado que justifican el desarrollo de políticas y programas de apoyo a las PYMEs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98108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YMEs: 90% del stock de empresas en América Latina y el Cari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imet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ías de inform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lta de capacidad y sofistic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tos costos de gest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E98795F3-C24A-43EE-8BE5-6E5EE2981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399cd"/>
                </a:solidFill>
                <a:latin typeface="Arial Narrow"/>
              </a:rPr>
              <a:t>PYMES latinoamericanas: principales cuellos de botella para el aprovechamiento de oportunidades en mercados globales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228600" y="21337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Asocia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143000" y="21337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strez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geren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057400" y="21337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Acceso 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api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2971800" y="2133720"/>
            <a:ext cx="1143000" cy="9903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Estudios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facti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y 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3962520" y="21337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Normali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ert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5791320" y="21337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Super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barr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técn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 ent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6705720" y="2133720"/>
            <a:ext cx="1143000" cy="9903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Requis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empa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embal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7696080" y="2133720"/>
            <a:ext cx="1143000" cy="99036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Ac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a cade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istrib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57200" y="1828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2514600" y="1828800"/>
            <a:ext cx="365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7772400" y="18288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1220400" y="1523880"/>
            <a:ext cx="10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Organ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 fact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327000" y="1523880"/>
            <a:ext cx="125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Contestabi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 los merc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152280" y="3124080"/>
            <a:ext cx="990720" cy="29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aum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la of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aum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la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aso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on centros                de invest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cre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luste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form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grem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>
            <a:off x="990720" y="320040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1371600" y="44197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7"/>
          <p:cNvSpPr/>
          <p:nvPr/>
        </p:nvSpPr>
        <p:spPr>
          <a:xfrm>
            <a:off x="990720" y="3124080"/>
            <a:ext cx="94284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le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cont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finan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merca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recur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pla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nego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nego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981080" y="3200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9"/>
          <p:cNvSpPr/>
          <p:nvPr/>
        </p:nvSpPr>
        <p:spPr>
          <a:xfrm>
            <a:off x="1903320" y="3124080"/>
            <a:ext cx="10116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form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créd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garantí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segu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deuda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moros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2895480" y="3200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1"/>
          <p:cNvSpPr/>
          <p:nvPr/>
        </p:nvSpPr>
        <p:spPr>
          <a:xfrm>
            <a:off x="2819520" y="3124080"/>
            <a:ext cx="11430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apacidad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abastec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facti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3886200" y="3200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3"/>
          <p:cNvSpPr/>
          <p:nvPr/>
        </p:nvSpPr>
        <p:spPr>
          <a:xfrm>
            <a:off x="3885840" y="3124080"/>
            <a:ext cx="110124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sanitaria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fitosani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segur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responsa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orpor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4"/>
          <p:cNvSpPr/>
          <p:nvPr/>
        </p:nvSpPr>
        <p:spPr>
          <a:xfrm>
            <a:off x="5867280" y="3200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5790960" y="3124080"/>
            <a:ext cx="95508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sanitaria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fitosanit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puerto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segurida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terror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registros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lic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inspe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al arri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6"/>
          <p:cNvSpPr/>
          <p:nvPr/>
        </p:nvSpPr>
        <p:spPr>
          <a:xfrm>
            <a:off x="6781680" y="3200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6781680" y="3124080"/>
            <a:ext cx="9684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co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artele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transport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solu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ontrovers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on agente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transpor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8"/>
          <p:cNvSpPr/>
          <p:nvPr/>
        </p:nvSpPr>
        <p:spPr>
          <a:xfrm>
            <a:off x="777240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9"/>
          <p:cNvSpPr/>
          <p:nvPr/>
        </p:nvSpPr>
        <p:spPr>
          <a:xfrm>
            <a:off x="7849080" y="3124080"/>
            <a:ext cx="10738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rác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restrictiv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falt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falta de po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de negoc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-lanzamient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1"/>
          <p:cNvSpPr/>
          <p:nvPr/>
        </p:nvSpPr>
        <p:spPr>
          <a:xfrm>
            <a:off x="4876920" y="2133720"/>
            <a:ext cx="1066680" cy="9903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jecuci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d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produ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3"/>
          <p:cNvSpPr/>
          <p:nvPr/>
        </p:nvSpPr>
        <p:spPr>
          <a:xfrm>
            <a:off x="4876920" y="32004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4881600" y="3124080"/>
            <a:ext cx="1055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</a:rPr>
              <a:t>Apl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e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-gest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ión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propi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Narrow"/>
              </a:rPr>
              <a:t>intele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-disponi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e man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obra adecu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-ejecu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la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nego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6"/>
          <p:cNvSpPr/>
          <p:nvPr/>
        </p:nvSpPr>
        <p:spPr>
          <a:xfrm>
            <a:off x="3245040" y="609588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ENTORNO   DE  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 flipV="1">
            <a:off x="990720" y="5714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7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2CB6500D-4299-4595-B843-36E5C0D93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El Banco puede apoyar de diversas maneras… (1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426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raciones financier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el sector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el sector pri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operación técnica reembol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peraciones no financier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operaciones técnicas nacionales y regionales no reembol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el sector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a el sector pri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sti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álisis de polí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álogos de Pol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8E7C8245-F573-4D63-81E0-D087BFE7A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El Banco puede apoyar de diversas maneras… (2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aximizando el valor de la PI en el sector PYME (FOMIN y CII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o de estrategias de marca y merca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finición de 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o de nuevos modelos de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ianzas estraté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uerdos contractuales de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onitoreo y gestión de la protección de la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CEC88613-AA8E-4B09-98D0-C89780C0A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El Banco puede apoyar de diversas maneras… (3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807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tegiendo la PI al interior de las PYMEs (FOMIN y CII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oyo al desarrollo de políticas corpor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ferta de asesoría 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nsibilización, entrenamiento y 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cción de marcas y otras modalidades de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4D42AD11-67D5-4BEE-9A6D-AD4F41385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El Banco puede apoyar de diversas maneras… (4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ortalecimiento institucional (BID, CII, FOMIN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arrollo y financiamiento de estrategias, políticas y programas de aprovechamiento de la PI por parte de las P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talecimiento de capacidades de sector público, privado, academia, sociedad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pacitación y educación sobre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mplificación y reducción de costos de procedimientos de regi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ablecimiento de Centros de Desarrollo Empresarial enfocados en la transferencia de tecnología e información en bases de datos de patentes y de otras modalidades de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90B67C65-4A7D-492B-A2FB-216D00A29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99cd"/>
                </a:solidFill>
                <a:latin typeface="Arial"/>
              </a:rPr>
              <a:t>En resumen…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PI implica una delicada ecuación que busca equilibrar la protecci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ón de los derechos de propiedad, los incentivos para la innovación y la función social del conocimient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01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una economía globalizada -en la que la competitividad de las empresas y los países es una función de la capacidad de innovar y de generar más sofisticación tecnológica- la PI contribuye a generar oportunidades de desarroll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PYMEs de América Latina y el Caribe confrontan múltiples cuellos de botella. Una de esas dificultades es la asimilación y aprovechamiento de la PI, por lo que las políticas y programas de apoyo –bajo una visión de oportunidad- están plenamente justificad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Banco puede apoyar a los gobiernos y a las pymes en la materialización de esas oportunidad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8C3E0C86-53FF-4631-B03C-5D03860D9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6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5" descr=""/>
          <p:cNvPicPr/>
          <p:nvPr/>
        </p:nvPicPr>
        <p:blipFill>
          <a:blip r:embed="rId1"/>
          <a:stretch/>
        </p:blipFill>
        <p:spPr>
          <a:xfrm>
            <a:off x="1598760" y="6051600"/>
            <a:ext cx="5945040" cy="272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3" descr=""/>
          <p:cNvPicPr/>
          <p:nvPr/>
        </p:nvPicPr>
        <p:blipFill>
          <a:blip r:embed="rId2"/>
          <a:stretch/>
        </p:blipFill>
        <p:spPr>
          <a:xfrm>
            <a:off x="2660760" y="2343240"/>
            <a:ext cx="3892320" cy="139068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66144EED-F988-4644-8755-7DAFCC5F4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399cd"/>
                </a:solidFill>
                <a:latin typeface="Arial"/>
              </a:rPr>
              <a:t>El mandato del Banco…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ontribuir a acelerar el proceso de desarrollo económico y social, individual y colectivo, de los países miembros regionales en vías de desarroll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ponentes esenciales para promover el desarrollo de América Latina y el Carib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ducción de pobreza y desigual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grar el crecimiento soste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Objetivos estratégicos del Banc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cuparse de las necesidades de los países más pequeños y de menor desarrollo rel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mover el desarrollo a través del Sector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2F528472-F3D0-4E05-A863-9FE2AC580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399cd"/>
                </a:solidFill>
                <a:latin typeface="Arial"/>
              </a:rPr>
              <a:t>Prioridades sectoriales del BID</a:t>
            </a:r>
            <a:endParaRPr b="1" lang="en-US" sz="30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6761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lítica social favorable a la igualdad y a la productivida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fraestructura para la competitividad y el bienestar soc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stituciones para el crecimiento y el bienestar soc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ntegración internacional competitiva regional y mundi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tección del medio ambiente, respuestas al cambio climático, promover la energía renovable y seguridad alimentari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74A143B8-CA9A-495C-9A76-86908A68C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0"/>
          <p:cNvSpPr/>
          <p:nvPr/>
        </p:nvSpPr>
        <p:spPr>
          <a:xfrm>
            <a:off x="3505320" y="2514600"/>
            <a:ext cx="182880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3a3e0"/>
                </a:solidFill>
                <a:latin typeface="Arial"/>
              </a:rPr>
              <a:t>El paradigma de la economía del conocimiento y la innovación como motores de desarrollo y competitividad de un país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grpSp>
        <p:nvGrpSpPr>
          <p:cNvPr id="101" name="Group 30"/>
          <p:cNvGrpSpPr/>
          <p:nvPr/>
        </p:nvGrpSpPr>
        <p:grpSpPr>
          <a:xfrm>
            <a:off x="762120" y="1600200"/>
            <a:ext cx="7619760" cy="4219560"/>
            <a:chOff x="762120" y="1600200"/>
            <a:chExt cx="7619760" cy="4219560"/>
          </a:xfrm>
        </p:grpSpPr>
        <p:sp>
          <p:nvSpPr>
            <p:cNvPr id="102" name="AutoShape 16"/>
            <p:cNvSpPr/>
            <p:nvPr/>
          </p:nvSpPr>
          <p:spPr>
            <a:xfrm>
              <a:off x="2133720" y="1981440"/>
              <a:ext cx="2057400" cy="457200"/>
            </a:xfrm>
            <a:custGeom>
              <a:avLst/>
              <a:gdLst>
                <a:gd name="textAreaLeft" fmla="*/ 317880 w 2057400"/>
                <a:gd name="textAreaRight" fmla="*/ 1533240 w 205740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675" hR="21600" stAng="10800000" swAng="5400000"/>
                  <a:lnTo>
                    <a:pt x="12759" y="0"/>
                  </a:lnTo>
                  <a:arcTo wR="6675" hR="21600" stAng="-5400000" swAng="2469202"/>
                  <a:lnTo>
                    <a:pt x="21218" y="14400"/>
                  </a:lnTo>
                  <a:lnTo>
                    <a:pt x="16391" y="21600"/>
                  </a:lnTo>
                  <a:lnTo>
                    <a:pt x="10800" y="14400"/>
                  </a:lnTo>
                  <a:lnTo>
                    <a:pt x="12967" y="14400"/>
                  </a:lnTo>
                  <a:arcTo wR="6675" hR="21600" stAng="-2930798" swAng="-1929747"/>
                  <a:lnTo>
                    <a:pt x="9717" y="2374"/>
                  </a:lnTo>
                  <a:arcTo wR="6675" hR="21600" stAng="-5939455" swAng="-4860545"/>
                  <a:close/>
                </a:path>
                <a:path fill="darkenLess" w="21600" h="21600">
                  <a:moveTo>
                    <a:pt x="0" y="21600"/>
                  </a:moveTo>
                  <a:arcTo wR="6675" hR="21600" stAng="10800000" swAng="5400000"/>
                  <a:lnTo>
                    <a:pt x="6675" y="0"/>
                  </a:lnTo>
                  <a:arcTo wR="6675" hR="21600" stAng="-5400000" swAng="539455"/>
                  <a:lnTo>
                    <a:pt x="9717" y="2374"/>
                  </a:lnTo>
                  <a:arcTo wR="6675" hR="21600" stAng="-5939455" swAng="-4860545"/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17"/>
            <p:cNvSpPr/>
            <p:nvPr/>
          </p:nvSpPr>
          <p:spPr>
            <a:xfrm>
              <a:off x="4800600" y="1600200"/>
              <a:ext cx="2514600" cy="381240"/>
            </a:xfrm>
            <a:custGeom>
              <a:avLst/>
              <a:gdLst>
                <a:gd name="textAreaLeft" fmla="*/ 388080 w 2514600"/>
                <a:gd name="textAreaRight" fmla="*/ 1874880 w 251460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6671" hR="21600" stAng="10800000" swAng="5400000"/>
                  <a:lnTo>
                    <a:pt x="12769" y="0"/>
                  </a:lnTo>
                  <a:arcTo wR="6671" hR="21600" stAng="-5400000" swAng="2468308"/>
                  <a:lnTo>
                    <a:pt x="21218" y="14400"/>
                  </a:lnTo>
                  <a:lnTo>
                    <a:pt x="16391" y="21600"/>
                  </a:lnTo>
                  <a:lnTo>
                    <a:pt x="10800" y="14400"/>
                  </a:lnTo>
                  <a:lnTo>
                    <a:pt x="12960" y="14400"/>
                  </a:lnTo>
                  <a:arcTo wR="6671" hR="21600" stAng="-2931692" swAng="-1927237"/>
                  <a:lnTo>
                    <a:pt x="9720" y="2388"/>
                  </a:lnTo>
                  <a:arcTo wR="6671" hR="21600" stAng="-5941071" swAng="-4858929"/>
                  <a:close/>
                </a:path>
                <a:path fill="darkenLess" w="21600" h="21600">
                  <a:moveTo>
                    <a:pt x="0" y="21600"/>
                  </a:moveTo>
                  <a:arcTo wR="6671" hR="21600" stAng="10800000" swAng="5400000"/>
                  <a:lnTo>
                    <a:pt x="6671" y="0"/>
                  </a:lnTo>
                  <a:arcTo wR="6671" hR="21600" stAng="-5400000" swAng="541071"/>
                  <a:lnTo>
                    <a:pt x="9720" y="2388"/>
                  </a:lnTo>
                  <a:arcTo wR="6671" hR="21600" stAng="-5941071" swAng="-4858929"/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4"/>
            <p:cNvSpPr/>
            <p:nvPr/>
          </p:nvSpPr>
          <p:spPr>
            <a:xfrm>
              <a:off x="3505320" y="259092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rebuchet MS"/>
                </a:rPr>
                <a:t>Economía dirigida por la efici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4"/>
            <p:cNvSpPr/>
            <p:nvPr/>
          </p:nvSpPr>
          <p:spPr>
            <a:xfrm>
              <a:off x="762120" y="4191120"/>
              <a:ext cx="1981080" cy="152388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505320" y="3276720"/>
              <a:ext cx="1828800" cy="25146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>
              <a:off x="6172200" y="3200400"/>
              <a:ext cx="2209680" cy="25909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762120" y="3124440"/>
              <a:ext cx="1981080" cy="91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1"/>
            <p:cNvSpPr/>
            <p:nvPr/>
          </p:nvSpPr>
          <p:spPr>
            <a:xfrm>
              <a:off x="6172200" y="2057400"/>
              <a:ext cx="2209680" cy="838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3"/>
            <p:cNvSpPr/>
            <p:nvPr/>
          </p:nvSpPr>
          <p:spPr>
            <a:xfrm>
              <a:off x="838080" y="320040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rebuchet MS"/>
                </a:rPr>
                <a:t>Economía dirigida por la dotación de facto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5"/>
            <p:cNvSpPr/>
            <p:nvPr/>
          </p:nvSpPr>
          <p:spPr>
            <a:xfrm>
              <a:off x="6324480" y="222588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rebuchet MS"/>
                </a:rPr>
                <a:t>Economía dirigida por la innov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7"/>
            <p:cNvSpPr/>
            <p:nvPr/>
          </p:nvSpPr>
          <p:spPr>
            <a:xfrm>
              <a:off x="914400" y="4191120"/>
              <a:ext cx="16765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stos países producen bienes básicos con bajos niveles de  productividad, lo que se refleja en precios bajos para los bienes</a:t>
              </a: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que produce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8"/>
            <p:cNvSpPr/>
            <p:nvPr/>
          </p:nvSpPr>
          <p:spPr>
            <a:xfrm>
              <a:off x="3657600" y="3353040"/>
              <a:ext cx="160020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onomías que debido al incremento en los salarios asociado con un mayor nivel de desarrollo, deben comenzar a implementar más eficientes procesos de producción e incrementar la calidad de sus producto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9"/>
            <p:cNvSpPr/>
            <p:nvPr/>
          </p:nvSpPr>
          <p:spPr>
            <a:xfrm>
              <a:off x="6324480" y="3276720"/>
              <a:ext cx="182880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onomías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mpiten por medio de la innovación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roduciendo nuevos y diferentes bie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y servicios, empleando para ello los má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ofisticados procesos de producció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31"/>
          <p:cNvSpPr/>
          <p:nvPr/>
        </p:nvSpPr>
        <p:spPr>
          <a:xfrm>
            <a:off x="152280" y="5943600"/>
            <a:ext cx="70866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Fuente: Elaboración propia a partir de </a:t>
            </a:r>
            <a:r>
              <a:rPr b="0" i="1" lang="es-ES_tradnl" sz="1200" spc="-1" strike="noStrike">
                <a:solidFill>
                  <a:srgbClr val="000000"/>
                </a:solidFill>
                <a:latin typeface="Trebuchet MS"/>
              </a:rPr>
              <a:t>Monge, R &amp; Hewitt John (2008) Innovación, competitividad y crecimiento. Serie Costa Rica Nº 5. CAAT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8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85352492-880E-4EF8-AF65-42BA0F7C0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Políticas para promover</a:t>
            </a:r>
            <a:br>
              <a:rPr sz="2400"/>
            </a:b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inversión en innovación (I&amp;D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íticas de implementación inmediat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sidios directos para I&amp;D: fondos no reembolsables y créditos tribu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íticas de implementación a largo plazo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moción del comercio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ticas de proveeduría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moción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oyo público para surgimiento de mercados de capital de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Protección y gestión de los derechos Propiedad Intele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visión pública del conocimiento y be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Propiedad intelectual y desarrollo económico (1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lación tradicionalmente polémica: evidencia no es inequívo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contrando el eslabón perdido: el paradigma de la economía del conocimi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ocimiento e innovación como motores del crecimiento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cción de la PI como factor para promover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tección de la PI como factor para atraer IED: empleos de calidad, transferencia de tecnología, divisas fre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 contribuye a un 0.66% del crecimiento de economías abiertas sobre economías cer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8EAFB328-3548-454F-82B9-39E76A912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Propiedad intelectual y desarrollo económico (2)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520" y="1600200"/>
            <a:ext cx="8534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 como generadores de riqueza corporati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vos de PI como medida de viabilidad de las empresas y de rendimiento fut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estión de la PI como elemento esencial de las estrategias empresa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buen stock de PI en la empresa facilita la adquisición de capital de riesgo y acceso al 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vita que las empresas incurran en inversiones antieconómicas en actividades de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 y de comerci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B8CD4A2C-7965-4CFD-9B27-AE1D6C960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Contribución de las patentes al desarrollo económico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52388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información de las patentes promueve transferencia de tecnología e invers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s patentes como catalizadoras de nuevas tecnologías y empres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mueven 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 en universidades y centros de investigació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s empresas acumulan patentes y son aprovechadas mediante licenciamiento, alianzas estratégicas y otras modalidades de generación de rent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3ABCC9E3-C7CB-44E6-AF35-BF2AAAA46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El aporte de las marcas y de</a:t>
            </a:r>
            <a:br>
              <a:rPr sz="2400"/>
            </a:br>
            <a:r>
              <a:rPr b="1" lang="es-ES_tradnl" sz="2400" spc="-1" strike="noStrike">
                <a:solidFill>
                  <a:srgbClr val="0399cd"/>
                </a:solidFill>
                <a:latin typeface="Arial"/>
              </a:rPr>
              <a:t>las indicaciones geográficas…</a:t>
            </a:r>
            <a:endParaRPr b="1" lang="en-US" sz="2400" spc="-1" strike="noStrike">
              <a:solidFill>
                <a:srgbClr val="0399cd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mueven la responsabilidad de los produc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lealtad al produc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cilitan la diferenciación de produc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tribuyen al control de la competencia desle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reditan cumplimiento de estándares de seguridad y calid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39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477120" y="6610320"/>
            <a:ext cx="23619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fld id="{AB668965-0B54-4A34-AF7F-03BF90379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07:24Z</dcterms:created>
  <dc:creator>Richard MARTIN</dc:creator>
  <dc:description>Propiedad Intelectual:Oportunidades para el desarrollo de las PYMEsde Amrica Latina y el Caribe   Jaime Granados Especialista Sr. en Comercio e Integracin Sector de Integracin y Comercio (INT) Vicepresidencia de Sectores y Conocimiento (VPS)  Maximizando el Valor de las Innovaciones Mexicanas a travs de la Propiedad</dc:description>
  <cp:keywords/>
  <dc:language>en-US</dc:language>
  <cp:lastModifiedBy>FAUSTIN Tracy</cp:lastModifiedBy>
  <dcterms:modified xsi:type="dcterms:W3CDTF">2012-12-07T15:59:31Z</dcterms:modified>
  <cp:revision>1</cp:revision>
  <dc:subject>Propiedad Intelectual:Oportunidades para el desarrollo de las PYMEsde Amrica Latina y el Caribe   Jaime Granados Especialista Sr. en Comercio e Integracin Sector de Integracin y Comercio (INT) Vicepresidencia de Sectores y Conocimiento (VPS)  Maximizando el Valor de las Innovaciones Mexicanas a travs de la Propiedad</dc:subject>
  <dc:title>Propiedad Intelectual: Oportunidades para el desarrollo de las PYMEs de América Latina y el Carib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>&lt;p&gt;Propiedad Intelectual:Oportunidades para el desarrollo de las PYMEsde Amrica Latina y el Caribe   Jaime Granados Especialista Sr. en Comercio e Integracin Sector de Integracin y Comercio (INT) Vicepresidencia de Sectores y Conocimiento (VPS)  Maximizando el Valor de las Innovaciones Mexicanas a travs de la Propiedad&lt;/p&gt;</vt:lpwstr>
  </property>
  <property fmtid="{D5CDD505-2E9C-101B-9397-08002B2CF9AE}" pid="3" name="EktCmsSize">
    <vt:r8>869376</vt:r8>
  </property>
  <property fmtid="{D5CDD505-2E9C-101B-9397-08002B2CF9AE}" pid="4" name="EktContentLanguage">
    <vt:r8>2057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2-10-19T09:24:34Z</vt:filetime>
  </property>
  <property fmtid="{D5CDD505-2E9C-101B-9397-08002B2CF9AE}" pid="8" name="EktDateModified">
    <vt:filetime>2012-10-19T09:24:33Z</vt:filetime>
  </property>
  <property fmtid="{D5CDD505-2E9C-101B-9397-08002B2CF9AE}" pid="9" name="EktDisabledTaxCategory">
    <vt:lpwstr/>
  </property>
  <property fmtid="{D5CDD505-2E9C-101B-9397-08002B2CF9AE}" pid="10" name="EktDontInheritAreaModuleConfiguration">
    <vt:bool>0</vt:bool>
  </property>
  <property fmtid="{D5CDD505-2E9C-101B-9397-08002B2CF9AE}" pid="11" name="EktEDescription">
    <vt:lpwstr>Summary &lt;p&gt;Propiedad Intelectual:Oportunidades para el desarrollo de las PYMEsde Amrica Latina y el Caribe   Jaime Granados Especialista Sr. en Comercio e Integracin Sector de Integracin y Comercio (INT) Vicepresidencia de Sectores y Conocimiento (VPS)  Maximizando el Valor de las Innovaciones Mexicanas a travs de la Propiedad&lt;/p&gt;</vt:lpwstr>
  </property>
  <property fmtid="{D5CDD505-2E9C-101B-9397-08002B2CF9AE}" pid="12" name="EktExpiryType">
    <vt:r8>1</vt:r8>
  </property>
  <property fmtid="{D5CDD505-2E9C-101B-9397-08002B2CF9AE}" pid="13" name="EktFeature">
    <vt:bool>0</vt:bool>
  </property>
  <property fmtid="{D5CDD505-2E9C-101B-9397-08002B2CF9AE}" pid="14" name="EktFileName">
    <vt:lpwstr>IP opportunities for the development of small- and medium-sized enterprises in Latin American and the Carribbean.ppt</vt:lpwstr>
  </property>
  <property fmtid="{D5CDD505-2E9C-101B-9397-08002B2CF9AE}" pid="15" name="EktFolderName">
    <vt:lpwstr/>
  </property>
  <property fmtid="{D5CDD505-2E9C-101B-9397-08002B2CF9AE}" pid="16" name="EktMetaDescription">
    <vt:lpwstr>PowerPoint presentation on how intellectual property can benefit small- and medium-sized enterprises or PYMEs in Latin America and the Caribbean. This Spanish presentation was shown at the launch of ICC BASCAP&amp;#39;s Intellectual (IP) Guidelines in Latin American.</vt:lpwstr>
  </property>
  <property fmtid="{D5CDD505-2E9C-101B-9397-08002B2CF9AE}" pid="17" name="EktMetaTitle">
    <vt:lpwstr>Intellectual property: opportunities for small- and medium-sized enterprises in Latin American and the Caribbean - Spanish version</vt:lpwstr>
  </property>
  <property fmtid="{D5CDD505-2E9C-101B-9397-08002B2CF9AE}" pid="18" name="EktPublicationDate">
    <vt:filetime>2012-12-07T00:00:00Z</vt:filetime>
  </property>
  <property fmtid="{D5CDD505-2E9C-101B-9397-08002B2CF9AE}" pid="19" name="EktQuickLink">
    <vt:lpwstr>DownloadAsset.aspx?id=2147498713</vt:lpwstr>
  </property>
  <property fmtid="{D5CDD505-2E9C-101B-9397-08002B2CF9AE}" pid="20" name="EktSearchable">
    <vt:r8>1</vt:r8>
  </property>
  <property fmtid="{D5CDD505-2E9C-101B-9397-08002B2CF9AE}" pid="21" name="EktTaxCategory">
    <vt:lpwstr> #eksep# \Areas\Advocacy Codes and Rules\BASCAP\Value of IP\IP Guidelines Launch Events #eksep# </vt:lpwstr>
  </property>
</Properties>
</file>